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A9B-7780-4668-B033-37584931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D62-8BC7-4C1B-B3EF-D584301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126-1CDF-47E2-9D2E-CB8AFE2E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D50-078B-4942-B0F8-DA1D781A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A589-0441-4601-B21E-366B262B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22C-0D2F-4801-995E-2961E75E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A0B-4FED-494F-915B-4E083FD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0EC0-27FF-42DC-8826-22DC251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7FF7-289C-41DB-9611-5004FA0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33A9-ADB4-40C1-8979-E9ED13F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C282-BD0B-4F4E-9CFF-528FEC9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714-D704-4E49-B7B4-F0AF2ED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55B-1080-48E4-B321-90019A7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9FBD-643E-4DBF-BE5E-434041CD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61CD-D4B7-4A23-AD80-4CC51F3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E18E-8A7B-4702-8686-7D67D3B0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A71D-A9B6-437E-85E6-8E90F8BC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240-1B00-44BD-BA25-CCB16B6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F3F-17C6-4F2E-8F06-39751DB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30C-803F-44E9-9B3B-67F938A3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6BC-C796-4C8D-B2F2-490BA3FB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BA2-F06A-4700-8774-202887E5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365-7AC4-4115-AF4C-2A70F18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B7E-8DBA-48F0-B5A5-CBF15E3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44A-CBF9-4241-A106-1226ADFB63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C78-4372-4006-BA63-3AD4FFA1C59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lase espanol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hley y latr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deport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 juego futb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 juego teni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justa basquetb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justa go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volib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1800" y="2438280"/>
            <a:ext cx="2038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 gustria ser…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gustria ser una abogd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gustria ser una sectrta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e gustria ser poli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me gustria ser una docto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10160" y="2128680"/>
            <a:ext cx="3771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el color de ro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me gusta el color azu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gusta el color negr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i no me gusta el color az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818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32:59Z</dcterms:created>
  <dc:creator>WSFCS Workstation</dc:creator>
  <dc:description/>
  <dc:language>en-US</dc:language>
  <cp:lastModifiedBy>WSFCS Workstation</cp:lastModifiedBy>
  <dcterms:modified xsi:type="dcterms:W3CDTF">2010-04-27T18:58:32Z</dcterms:modified>
  <cp:revision>3</cp:revision>
  <dc:subject/>
  <dc:title>La clase espanol </dc:title>
</cp:coreProperties>
</file>